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6DE07-12C5-413A-8D30-825DE46C2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87441-960E-4180-B992-D4AF64040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2ACB6-37AD-41D8-9C62-A588CD354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BAD09-B699-45B6-AD7D-25C17AE32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3DB74-63DA-4B9A-B2EC-630DD0780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6D1FE-0067-4F77-9786-C869E7E69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9EA95-09B0-4DBF-9B31-4E224B839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0A861-2C23-4D70-9570-F716FC1DE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B40CE-0232-4178-ACB6-53E32880E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AAAA8-586A-4F1B-9641-5872A6529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29AF1-13FF-4389-900E-02C7E71C7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44620-4089-4DF4-915A-1B72F86E6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6A584-B61F-4745-B8E1-22EDCBF15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0C69F-B6DD-401B-89D6-DD4CDBFDB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A59A5-10DB-4560-9B28-F5D7BE976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D192A-53F2-403C-AA3A-71439E6C5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1C3C3-6CCB-4B7D-AC6E-D6BA1F339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183AD-84A6-4573-839E-C58805BD7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354CA-3335-47F9-BD12-BC4447415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13E0C-740F-48B1-B90C-68A4878AC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7DB76-A5E4-4CC5-B71E-6293DCB8E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45219-64F1-47E5-867E-2505F00C4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C51A3-0A6A-4A95-A0FA-4A2A6D05C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01BFF-B02D-487E-9805-7AE08D3BE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6C23A-0C8B-4F52-86D9-E16A4C80CC6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2A9D5-BB21-42E8-8CEE-6A865E5C602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sde.ct.gov/sde/cwp/view.asp?a=2678&amp;Q=320730" TargetMode="External"/><Relationship Id="rId2" Type="http://schemas.openxmlformats.org/officeDocument/2006/relationships/hyperlink" Target="http://idea.ed.gov/explore/view/p/%2Croot%2Cdynamic%2CTopicalArea%2C1%2C" TargetMode="External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360" y="1676160"/>
            <a:ext cx="80010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Understanding the IEP Proces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295280" y="3733560"/>
            <a:ext cx="647712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 803 Presentation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 Erik Byk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s: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sde.ct.gov/sde/cwp/view.asp?a=2678&amp;Q=32073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idea.ed.gov/explore/view/p/%2Croot%2Cdynamic%2CTopicalArea%2C1%2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EP Compon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398240" y="2363760"/>
            <a:ext cx="7340760" cy="37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ommodations and Modif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ommodations – changes the “how” of what is taught.  A change is made to the teaching or testing procedures to provide a student with access to information and to create an equal opportunity to demonstrate knowledge and skill.  Does not change the instructional level, content or criteria for meeting a standar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EP Compon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542600" y="2363760"/>
            <a:ext cx="7340760" cy="37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the “what” we teach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dification is a change in what a student is expected to learn and/or demonstrat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ile a student may be working on modified course content, the subject area remains the same as the rest of the class.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EP Compon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542600" y="2363760"/>
            <a:ext cx="7340760" cy="37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tails special education, related services and regular edu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 of related services: assistive technology, audiology, counseling, physical, occupational or speech/language therapy, school nurse, psychological or social worker services, transpor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EP: Planning </a:t>
            </a: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before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Plac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2491200" y="1461600"/>
            <a:ext cx="5154840" cy="5117760"/>
            <a:chOff x="2491200" y="1461600"/>
            <a:chExt cx="5154840" cy="5117760"/>
          </a:xfrm>
        </p:grpSpPr>
        <p:sp>
          <p:nvSpPr>
            <p:cNvPr id="126" name="_s23557"/>
            <p:cNvSpPr/>
            <p:nvPr/>
          </p:nvSpPr>
          <p:spPr>
            <a:xfrm>
              <a:off x="3163680" y="2165760"/>
              <a:ext cx="3810240" cy="3709800"/>
            </a:xfrm>
            <a:prstGeom prst="blockArc">
              <a:avLst>
                <a:gd name="adj1" fmla="val 14400000"/>
                <a:gd name="adj2" fmla="val 7200000"/>
                <a:gd name="adj3" fmla="val 16667"/>
              </a:avLst>
            </a:prstGeom>
            <a:solidFill>
              <a:srgbClr val="ff0000">
                <a:alpha val="50000"/>
              </a:srgbClr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_s23558"/>
            <p:cNvSpPr/>
            <p:nvPr/>
          </p:nvSpPr>
          <p:spPr>
            <a:xfrm rot="7200000">
              <a:off x="3213720" y="2115360"/>
              <a:ext cx="3709800" cy="3810240"/>
            </a:xfrm>
            <a:prstGeom prst="blockArc">
              <a:avLst>
                <a:gd name="adj1" fmla="val 14400000"/>
                <a:gd name="adj2" fmla="val 7200000"/>
                <a:gd name="adj3" fmla="val 16667"/>
              </a:avLst>
            </a:prstGeom>
            <a:solidFill>
              <a:srgbClr val="ffcf01">
                <a:alpha val="50000"/>
              </a:srgbClr>
            </a:solidFill>
            <a:ln w="57240">
              <a:solidFill>
                <a:srgbClr val="ffcf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_s23559"/>
            <p:cNvSpPr/>
            <p:nvPr/>
          </p:nvSpPr>
          <p:spPr>
            <a:xfrm rot="14400000">
              <a:off x="3213720" y="2115000"/>
              <a:ext cx="3709800" cy="3810240"/>
            </a:xfrm>
            <a:prstGeom prst="blockArc">
              <a:avLst>
                <a:gd name="adj1" fmla="val 14400000"/>
                <a:gd name="adj2" fmla="val 7200000"/>
                <a:gd name="adj3" fmla="val 16667"/>
              </a:avLst>
            </a:prstGeom>
            <a:solidFill>
              <a:srgbClr val="3366ff">
                <a:alpha val="50000"/>
              </a:srgbClr>
            </a:solidFill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_s23560"/>
            <p:cNvSpPr/>
            <p:nvPr/>
          </p:nvSpPr>
          <p:spPr>
            <a:xfrm>
              <a:off x="3111480" y="2682360"/>
              <a:ext cx="1162080" cy="113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1200" rIns="61200" tIns="30600" bIns="30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Comic Sans MS"/>
                </a:rPr>
                <a:t>1.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Comic Sans MS"/>
                </a:rPr>
                <a:t>Evaluate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_s23561"/>
            <p:cNvSpPr/>
            <p:nvPr/>
          </p:nvSpPr>
          <p:spPr>
            <a:xfrm>
              <a:off x="5862600" y="2680560"/>
              <a:ext cx="1162080" cy="113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1200" rIns="61200" tIns="30600" bIns="30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Comic Sans MS"/>
                </a:rPr>
                <a:t>2.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Comic Sans MS"/>
                </a:rPr>
                <a:t>Develop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Comic Sans MS"/>
                </a:rPr>
                <a:t>IEP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_s23562"/>
            <p:cNvSpPr/>
            <p:nvPr/>
          </p:nvSpPr>
          <p:spPr>
            <a:xfrm>
              <a:off x="4487760" y="5000760"/>
              <a:ext cx="1162080" cy="113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1200" rIns="61200" tIns="30600" bIns="30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Comic Sans MS"/>
                </a:rPr>
                <a:t>3.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Comic Sans MS"/>
                </a:rPr>
                <a:t>Placement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lac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542600" y="2295360"/>
            <a:ext cx="7340760" cy="374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gram before plac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ividually determined, based on IE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consideration must be general education with supplemental services and sup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be in the “least restrictive environment” (LR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RE: “to the maximum extent appropriate children with disabilities are educated with children who are not disabled.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hanges and Amendments to the I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614600" y="2363760"/>
            <a:ext cx="7340400" cy="37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to an IEP can be made without a team meeting if the parents and district agree and develop a written document to amend or modify the current IEP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IEP can be amended rather than redrafting the entire document – unless the parent requests a copy of the revised IEP.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685800" y="533520"/>
            <a:ext cx="4800600" cy="45720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828800" y="1905120"/>
            <a:ext cx="4800600" cy="49528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200400" y="685800"/>
            <a:ext cx="4419720" cy="43434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68580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 Black"/>
              </a:rPr>
              <a:t>Par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629400" y="53352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 Black"/>
              </a:rPr>
              <a:t>Stud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5460840"/>
            <a:ext cx="3276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 Black"/>
              </a:rPr>
              <a:t>Roles and responsibilit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 Black"/>
              </a:rPr>
              <a:t>at the 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0880" y="579132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 Black"/>
              </a:rPr>
              <a:t>Scho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838080" y="1981080"/>
            <a:ext cx="1524240" cy="11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Atte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Share visions &amp; prior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Ask ques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638680" y="1143000"/>
            <a:ext cx="1600200" cy="13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Attend &amp; Participate – when rea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Self-advoc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809880" y="1981080"/>
            <a:ext cx="1676520" cy="18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Share inform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Communicate to resolve differen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Acknowledge differen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828800" y="3657600"/>
            <a:ext cx="1752480" cy="13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Observe th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chi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Review/monitor progr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666880" y="5181480"/>
            <a:ext cx="358164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Commit resour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Follow procedural safeguar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Deliver servi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The Collaborative Approach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Who is responsible?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Principal…………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sures that IEPs are completed within 30 school days of a student's placement in a special education program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s IEPs within 30 school days of a student's placement in the program;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sures that IEPs are implemented and that, as part of implementation, the student's learning expectations are evaluated and updated at least once every reporting period;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age 17 - IEP Documen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Classroom Teacher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ibutes first-hand knowledge of the student's strengths, needs, and interests;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fills the role of the key curriculum expert on how the IEP can be developed to help the student progress through the Ontario curriculum;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s any modified or alternative learning expectations required to meet the student's needs, plans instruction to address those expectations, and assesses the student's achievement of the expectation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s and later implements teaching, and assessing, individualized teaching strategies that will help the student achieve his or her learning expectations;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views and updates learning expectations at the beginning of each reporting period;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s ongoing communication with the student's parents, other teachers, and other professionals and support staff involved with the student  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Page 17 - IEP Documen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dividualized Education Program (IEP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IEP is a written plan that describes in detail the child’s special education and related services the district will provide to meet the student’s individualized needs.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IEP is a legal docume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IEP is developed by the Planning and Placement T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IEP is reviewed at least annuall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parents have a right to receive a copy of the IEP within five school days after the PPT is hel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Special Education Teach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s diagnostic assessments, as appropriate and if required, to determine the student's learning strengths and needs;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s any modified or alternative learning expectations that fall within areas for which the special education teacher has direct responsibility;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s with the classroom teacher(s) to maintain ongoing communication with the student's parents and other teachers.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age 18 - IEP Documen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Educational Assistant….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lps the student with learning activities under the direction and supervision of the teacher;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ists with providing appropriate accommodations as described in the IEP;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itors and records the student's achievements and progress relative to the expectations described in the IEP, under the direction and supervision of the teacher;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age 18- IEP Documen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Student……………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elps the team identify his or her preferred learning styles and modalities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ssists in setting annual program goals and learning expectations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Page 19 - IEP Documen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Parent…………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up-to-date information about their child as it relates to the child's learning (e.g., recent assessment reports)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important information that will assist in the development and implementation of their child's educational program (e.g., the talents and skills their child demonstrates in the home and community; their child's likes, dislikes, learning styles, interests, and reactions to various situations)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ultation 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Page 19- IEP Documen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valuation &amp; On-going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P is linked to the report c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udents who are on “modified” programs will require a statement identifying the grade level from the curriculum they are being assessed in and the IEP box on the report card must be checked of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udents on “accommodated” only programs  DO NOT have the IEP box checked of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Page 46 – IEP document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lanning and Placement Tea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964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ent must receive written notice of the meeting 5 days prior to the Planning and Placement Team (PP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eting must be scheduled at a mutually agreed on time and plac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he meeting is scheduled at a time that is not convenient, the parent can request the district to reschedule or participate through an alternative method such as a conference call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ent can bring anyone they choose to the meetin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sability Categories for Eligibility for Special Educ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617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is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af-blind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af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mental delay (3-5 year old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motional disturb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aring impair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llectual disability (mental retarda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disab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thopedic impair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health impair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impair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ic learning dis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or language impair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umatic brain inju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sual impairment including blind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EP Compon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614240" y="2363760"/>
            <a:ext cx="6692760" cy="37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list of Planning and Placement Team recommendations must be recorde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no requirement for meeting minut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EP Compon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614600" y="2363760"/>
            <a:ext cx="7340400" cy="37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ior written notice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st detail the decisions made regarding eligibility, evaluation, IEP or placement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st record actions proposed or refused; a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st be provided at least 5 days before the decisions are put into plac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EP Compon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469520" y="2363760"/>
            <a:ext cx="7340760" cy="37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 education, related services and other supports must allow for a child t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ce toward annual goals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gress in the general education curriculum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cipate in extra-curricular and non-academic activities; an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educated and participate with children who do not have disabiliti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EP Compon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542600" y="2363760"/>
            <a:ext cx="7340760" cy="37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esent level of academic achievement and functiona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cribes area of strength and need a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cords the impact of the disability on participation in the general education curriculum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EP Compon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42600" y="2363760"/>
            <a:ext cx="7340760" cy="37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asurable Goals and Objectiv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st relate to identified areas of ne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st be clear and measura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st note how progress will be measured and repor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4T03:25:32Z</dcterms:created>
  <dc:creator>Erik</dc:creator>
  <dc:description/>
  <dc:language>en-US</dc:language>
  <cp:lastModifiedBy>Erik</cp:lastModifiedBy>
  <dcterms:modified xsi:type="dcterms:W3CDTF">2009-04-24T03:39:46Z</dcterms:modified>
  <cp:revision>2</cp:revision>
  <dc:subject/>
  <dc:title> Understanding the IEP Process</dc:title>
</cp:coreProperties>
</file>